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DD0-BF3D-4DF3-9050-8DA25236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7A4-57D6-48E3-8E5B-EC02034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9DF-E46A-4242-B759-B1E0A518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B45-998F-49AC-9BE0-BC72B19C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8A1-3036-47D3-96A9-8FFA2E9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577-F53A-48C9-AC0A-ED2D6E76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0C7-7FBB-422F-BA36-35995CEC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C36-7E2E-4A72-8A14-1A0E1113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8B3-9EBD-4D50-A204-7B7A82E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5E2B-5CDA-4C84-BEA5-C6E03C74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869-70BF-46F8-926F-2B3F4FF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CFC-7F9D-4A26-83F2-B0D4C50B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FDC7-4288-46DF-9C3A-F3F7C927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CTÓNICA      Y      PAI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FACTORES   MAS  IMPORTANTES   QUE   INFLUENCIA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VOLUCIÓN   DEL   PAISAJE    TERRESTR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:    (1)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MPLAZAMIENTO  TECTÓ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2)     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CLI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Y    (3)  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  DE  LA  FORMACIÓN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U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AÑA  PLEGAD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FORMADA  EN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RGEN  DE  PLACA  CONVERGENT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DE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ROSIÓ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JUSTE  ISOSTÁT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UBSECUENTES  A  QUE  ES  SOMETIDA,    Y  QUE  LA   REDUCEN   HASTA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ÍSO   AMPLIO  DE  SUPERFICIE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MUY  PRÓXIMO  A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IVEL  DEL  M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RELIEVES  LOCALES  EN  UN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UDO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DE  MENOS  DE  100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BÁSICAMENTE    DEPENDEN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OSIÓN     DIFERENCI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EN    LAS    ROCA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NEAS     Y  METAMÓR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PAISAJES  DESARROLLADOS  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AFORMA  ESTABLES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ULTAN  TAMBIÉN  DE  LA EROSIÓN   DIFERENCIAL,  PERO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OCAS SEDIMENTARI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ORIZONTALES  A  LEVEMENTE 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RENAJE  DENTRÍTIC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  COMÚN   EN  LOS ESTRATOS  HORIZONTALES, DÓNDE     PRODUC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COLIN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DONDEADAS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UEST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 TÍPIC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LLES   DESPLAZAD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FORMAN   EN  LOS  ESTRATOS  BAJOS  INCLINADOS,   EN  LOS FLANC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OMOS  ESTRUCTU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UENCA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CTÓNICA      Y      PAISAJE  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  LA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CADENAS  DE MONTAÑAS  PLEGADAS 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ROSIÓN  DIFERENCI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PRODUCE  UNA  SERIE  DE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DG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Y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LL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,   CONTROLADOS POR   LA    DIRECCIÓN  ESTRUCTURAL  DE  LOS PLIEGUES.   EL 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PAISAJE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ES  UN  REFLEJO  DE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FT  CONTINENTAL    (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HORST  Y  GRAB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LUVIOS”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BASÁLTICOS :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ICIE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RCOS  MAGMÁTICOS    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A  EROSIÓN  INTENSA  TERMINA  POR  BORRAR  TODO  VESTIGIO  O  RASGO  VOLCÁNICO,   DEJANDO  EXPUESTAS    LAS  RAICES  DE  ROCAS  INTRUSIVAS  PROFUN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1:36:13Z</dcterms:created>
  <dc:creator>Universidad de Chile</dc:creator>
  <dc:description/>
  <dc:language>en-US</dc:language>
  <cp:lastModifiedBy>Universidad de Chile</cp:lastModifiedBy>
  <dcterms:modified xsi:type="dcterms:W3CDTF">2001-06-27T22:33:18Z</dcterms:modified>
  <cp:revision>2</cp:revision>
  <dc:subject/>
  <dc:title>TECTÓNICA      Y      PAISAJE</dc:title>
</cp:coreProperties>
</file>